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EACE-CDAF-4448-9102-B307E3C404D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E0A-C6FC-43B8-94D8-DD1977BD506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70E-44B2-4CBE-ACB8-CDD206F6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7CB-F9F8-48C9-BC0C-978D3647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D51-7AD5-4E58-A139-87ED4AC4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B23-4EE5-4401-90D1-CC707DE1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1D5-2DA5-4BFE-9118-BA71B693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AA3-948D-4C3B-BFA5-05DAD696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460-B5E7-4D35-B9FF-7154AE43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BCF-88BB-4558-A57E-FFC87F5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9ED-991B-419F-B0BC-539E086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F7A-89A3-44B9-885D-681AE643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A27-83DB-473E-AE49-55FC1B1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A73-3845-4E91-9FA9-C15C906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1A1-A458-404F-8EC6-13F423C10F2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Curso de Inclusão Dig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om os avanços da tecnologia no âmbito escolar, vimos a necessidade da inclusão de todos os professores nesse novo mundo digitalizado. Através de uma reunião entre os professores da Sala de Tecnologia Educacional, resolveu-se aplicar um curso básico das ferramentas que o computador  oferece aos professores regentes, proporcionando, com isso, uma maior interação entre os mesmos e fazendo com que estes complementem suas aulas com o uso da Sala de Tecnologia Educacion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undo%20digital"/>
          <p:cNvPicPr/>
          <p:nvPr/>
        </p:nvPicPr>
        <p:blipFill>
          <a:blip r:embed="rId1"/>
          <a:stretch/>
        </p:blipFill>
        <p:spPr>
          <a:xfrm>
            <a:off x="2994120" y="3938760"/>
            <a:ext cx="3155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stimular e facilitar aos professores regentes o uso de novas ferramentas em complementação às suas aulas, tendo em vista que grande parte dos alunos já estão inseridos tecnologicamente;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Elaborar projetos interdisciplinares, proporcionando  interação entre os professores de disciplinas distintas para maior e melhor troca de informações entre os mes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A avaliação será realizada a partir da observância da participação dos professores  relativa à sua freqüência durante o curso, constando, também, a  auto-avaliação de cada um dos professores no relatório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1116000" y="1116000"/>
            <a:ext cx="66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O curso “Inclusão Digital” foi oferecido aos professores da rede estadual da escola Dr. José Manoel Fontanillas Fragelli da cidade de Angélica - 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Escola"/>
          <p:cNvPicPr/>
          <p:nvPr/>
        </p:nvPicPr>
        <p:blipFill>
          <a:blip r:embed="rId1"/>
          <a:stretch/>
        </p:blipFill>
        <p:spPr>
          <a:xfrm>
            <a:off x="1547640" y="2852640"/>
            <a:ext cx="540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900000" y="1790640"/>
            <a:ext cx="66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Os professores, por meio do curso “Inclusão Digital”, serão capacitados e inclusos em um programa que os fará ter uma noção das ferramentas básicas de informática, tais como: Windows, Word, Excel, Power Point, Paint e, também, a oportunidade da troca de informações e conversação através do MSN, visto que muitos professores não fazem uso destas ferramentas.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Obje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2960" y="2678760"/>
            <a:ext cx="722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Facilitar o uso da Sala de Tecnologia Educacional para os professores regentes, proporcionando maior e melhor interação  no preparo de suas aulas com o uso dos computador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</a:rPr>
              <a:t>Metod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042920" y="164916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Fazer a divulgação do projeto a ser desenvolvido por meio de reuniões efetuadas por turno para se obter o máximo de professores inclusos;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Desenvolver um cronograma das aulas a serem ministradas na sala de tecnologia, fazendo um diagnóstico da realidade dos professores frente à Informática Educativa;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· Preparar um relatório  sobre o desempenho geral dos professores ao final do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vulgação d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9" descr="item1"/>
          <p:cNvPicPr/>
          <p:nvPr/>
        </p:nvPicPr>
        <p:blipFill>
          <a:blip r:embed="rId1"/>
          <a:stretch/>
        </p:blipFill>
        <p:spPr>
          <a:xfrm>
            <a:off x="102060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0" descr="item8"/>
          <p:cNvPicPr/>
          <p:nvPr/>
        </p:nvPicPr>
        <p:blipFill>
          <a:blip r:embed="rId2"/>
          <a:stretch/>
        </p:blipFill>
        <p:spPr>
          <a:xfrm>
            <a:off x="521172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1" descr="item9"/>
          <p:cNvPicPr/>
          <p:nvPr/>
        </p:nvPicPr>
        <p:blipFill>
          <a:blip r:embed="rId3"/>
          <a:stretch/>
        </p:blipFill>
        <p:spPr>
          <a:xfrm>
            <a:off x="1019160" y="3938760"/>
            <a:ext cx="291312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2" descr="item4"/>
          <p:cNvPicPr/>
          <p:nvPr/>
        </p:nvPicPr>
        <p:blipFill>
          <a:blip r:embed="rId4"/>
          <a:stretch/>
        </p:blipFill>
        <p:spPr>
          <a:xfrm>
            <a:off x="5210280" y="3938760"/>
            <a:ext cx="29131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s apostilas foram doadas pela direção esco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m 031"/>
          <p:cNvPicPr/>
          <p:nvPr/>
        </p:nvPicPr>
        <p:blipFill>
          <a:blip r:embed="rId1"/>
          <a:stretch/>
        </p:blipFill>
        <p:spPr>
          <a:xfrm>
            <a:off x="1187280" y="393372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Imagem 032"/>
          <p:cNvPicPr/>
          <p:nvPr/>
        </p:nvPicPr>
        <p:blipFill>
          <a:blip r:embed="rId2"/>
          <a:stretch/>
        </p:blipFill>
        <p:spPr>
          <a:xfrm>
            <a:off x="4427640" y="148428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fessores realizando 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0" descr="Imagem1"/>
          <p:cNvPicPr/>
          <p:nvPr/>
        </p:nvPicPr>
        <p:blipFill>
          <a:blip r:embed="rId1"/>
          <a:stretch/>
        </p:blipFill>
        <p:spPr>
          <a:xfrm>
            <a:off x="1020600" y="1600200"/>
            <a:ext cx="290988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1" descr="Imagem2"/>
          <p:cNvPicPr/>
          <p:nvPr/>
        </p:nvPicPr>
        <p:blipFill>
          <a:blip r:embed="rId2"/>
          <a:stretch/>
        </p:blipFill>
        <p:spPr>
          <a:xfrm>
            <a:off x="5211720" y="1600200"/>
            <a:ext cx="291168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2" descr="Imagem3"/>
          <p:cNvPicPr/>
          <p:nvPr/>
        </p:nvPicPr>
        <p:blipFill>
          <a:blip r:embed="rId3"/>
          <a:stretch/>
        </p:blipFill>
        <p:spPr>
          <a:xfrm>
            <a:off x="1020600" y="3938760"/>
            <a:ext cx="290988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Imagem 043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fessores realizando 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Imagem5"/>
          <p:cNvPicPr/>
          <p:nvPr/>
        </p:nvPicPr>
        <p:blipFill>
          <a:blip r:embed="rId1"/>
          <a:stretch/>
        </p:blipFill>
        <p:spPr>
          <a:xfrm>
            <a:off x="1042920" y="1557360"/>
            <a:ext cx="289260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Imagem6"/>
          <p:cNvPicPr/>
          <p:nvPr/>
        </p:nvPicPr>
        <p:blipFill>
          <a:blip r:embed="rId2"/>
          <a:stretch/>
        </p:blipFill>
        <p:spPr>
          <a:xfrm>
            <a:off x="521028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Imagem 037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Imagem 04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25:31Z</dcterms:created>
  <dc:creator>E.E. José Manuel F. Fragelli</dc:creator>
  <dc:description/>
  <dc:language>en-US</dc:language>
  <cp:lastModifiedBy>user</cp:lastModifiedBy>
  <dcterms:modified xsi:type="dcterms:W3CDTF">2009-08-03T21:50:54Z</dcterms:modified>
  <cp:revision>10</cp:revision>
  <dc:subject/>
  <dc:title>Curso de Inclusão Digital</dc:title>
</cp:coreProperties>
</file>